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580C-D90B-4575-A6E2-963649847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8458-B022-4F6B-990A-754C02B9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19EB-5425-42C4-9647-F9393E8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F444-C596-4B23-A521-AE9EF0CAC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6789-FEB2-4CD3-9170-61267C58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57A2-C499-48CF-B0CC-C79558BD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97C7-E328-48DB-8395-6D685EEA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B405-285A-4998-B271-A6BA750E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38E7-7159-40E5-A0A9-157BAAD2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141B-5F2B-45C3-92B3-4988857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A4A0-178B-4645-926D-8B19195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3679-B266-4638-B1BC-5CE439E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90AE2-7C67-40A8-B4C2-B086CC66A4E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_Cuadra_de_Sevilla" TargetMode="External"/><Relationship Id="rId2" Type="http://schemas.openxmlformats.org/officeDocument/2006/relationships/hyperlink" Target="http://www.elsjoglars.com/" TargetMode="External"/><Relationship Id="rId3" Type="http://schemas.openxmlformats.org/officeDocument/2006/relationships/hyperlink" Target="http://www.lafura.com/web/index.html" TargetMode="External"/><Relationship Id="rId4" Type="http://schemas.openxmlformats.org/officeDocument/2006/relationships/hyperlink" Target="http://www.lacubana.es/es/" TargetMode="External"/><Relationship Id="rId5" Type="http://schemas.openxmlformats.org/officeDocument/2006/relationships/hyperlink" Target="http://www.atalaya-tnt.com/" TargetMode="External"/><Relationship Id="rId6" Type="http://schemas.openxmlformats.org/officeDocument/2006/relationships/hyperlink" Target="http://www.teatroabadia.com/home/index.php" TargetMode="External"/><Relationship Id="rId7" Type="http://schemas.openxmlformats.org/officeDocument/2006/relationships/hyperlink" Target="https://es.wikipedia.org/wiki/La_Zaranda" TargetMode="External"/><Relationship Id="rId8" Type="http://schemas.openxmlformats.org/officeDocument/2006/relationships/hyperlink" Target="http://www.lagoteradelazotea.es/" TargetMode="External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ergi_Belbel" TargetMode="External"/><Relationship Id="rId2" Type="http://schemas.openxmlformats.org/officeDocument/2006/relationships/hyperlink" Target="http://es.wikipedia.org/wiki/Juan_Mayorga" TargetMode="External"/><Relationship Id="rId3" Type="http://schemas.openxmlformats.org/officeDocument/2006/relationships/hyperlink" Target="https://cadizpedia.wikanda.es/wiki/Eusebio_Calonge" TargetMode="External"/><Relationship Id="rId4" Type="http://schemas.openxmlformats.org/officeDocument/2006/relationships/hyperlink" Target="https://es.wikipedia.org/wiki/Ang&#233;lica_Liddell" TargetMode="External"/><Relationship Id="rId5" Type="http://schemas.openxmlformats.org/officeDocument/2006/relationships/hyperlink" Target="https://es.wikipedia.org/wiki/Ernesto_Caballero_de_las_Heras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89000"/>
            <a:ext cx="7772400" cy="1469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CURSO 2º DE BACHILLERAT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LENGUA CASTELLANA Y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7921440" cy="46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SPAÑ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DESDE 19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A NUESTROS DÍ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25360"/>
            <a:ext cx="8929800" cy="5732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Buero Vallejo (1916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tapa realis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tiempo real y un espacio escén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que reproduce lugares concre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i="1" lang="es-ES" sz="2000" spc="-1" strike="noStrike">
                <a:solidFill>
                  <a:srgbClr val="e46c0a"/>
                </a:solidFill>
                <a:latin typeface="Verdana"/>
                <a:ea typeface="Microsoft YaHei"/>
              </a:rPr>
              <a:t>Historia de una escalera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(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a vida de unas familias madrileñas, sus fracasos  y miserias, vecinas de una esc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e46c0a"/>
                </a:solidFill>
                <a:latin typeface="Verdana"/>
                <a:ea typeface="Microsoft YaHei"/>
              </a:rPr>
              <a:t>En la ardiente oscuridad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realismo sim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bilismo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representar es lo que im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86760" y="1571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58040" y="4500720"/>
            <a:ext cx="144000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Sastre (19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subterráne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orque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ngloba autores que por motivos políticos no pudieron estrenar sus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como un medio de concienciación y de agi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rea un teatro trágico, de protesta y que invita a reflexionar sobre la necesidad de un cambio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posibilism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Escribir es más urgente que estreñ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Escuadra hacia la muert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1953) rebeldía de cinco soldados en misión suicida en una hipotética tercera guerra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29240" y="85716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125360"/>
            <a:ext cx="7921440" cy="5446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L TEATRO DE LOS AÑOS 60 Y 70. </a:t>
            </a:r>
            <a:r>
              <a:rPr b="0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 dos formulaciones básicas: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re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En los 60: Continúa el camino iniciado por Buero Vallejo y Alfonso Sastre  Evoluciona desde unas formas realistas-naturalistas hacia nuevas orientaciones estéticas como la farsa grotesca o el saine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Martín Recuerd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Lauro Olmo (</a:t>
            </a:r>
            <a:r>
              <a:rPr b="1" i="1" lang="es-ES" sz="1300" spc="-1" strike="noStrike">
                <a:solidFill>
                  <a:srgbClr val="ff0000"/>
                </a:solidFill>
                <a:latin typeface="Verdana"/>
                <a:ea typeface="Microsoft YaHei"/>
              </a:rPr>
              <a:t>La camisa</a:t>
            </a: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Carlos Muñi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emas sociale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(la vida miserable en las chabolas, la emigración, la explo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laboral, la hipocresía, la violencia)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enguaje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 violento, directo y sin eufemismo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T</a:t>
            </a: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ono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 de amargura y desesperanza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Protagonista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  <a:ea typeface="Microsoft YaHei"/>
              </a:rPr>
              <a:t>se presentan habitualmente como víctimas, fracasados y destruidos por la sociedad alienada y alienant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no realista : vanguardista y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uscan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uevas propuestas,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tampoco están exentas de crítica soc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os tendencia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que reparan en la deshumanización de la sociedad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Simbólic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 Miguel Romero Esteo, José Ruibal, Manuel Martínez Med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xperimental: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uero Vallejo, Francisco Nieva y Fernando Arra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1030320"/>
            <a:ext cx="8318520" cy="5398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Buero Vallejo (19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fecto de  inmersión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: introduce al espectador en el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l concierto de San Ovidi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protagonista ciego, apaga l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isco Nieva (19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rotismo, absurdo y técnicas cinematográ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y surre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Pelo de tor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Fernando Arrabal (193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e exilia voluntariamente para crear con liber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ánico:</a:t>
            </a:r>
            <a:r>
              <a:rPr b="1" lang="es-ES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del griego ‘pan’, todo) y pretenden ser un teatro to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ezcla lo absurdo con lo crue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s: política, religión y sexu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ff0000"/>
                </a:solidFill>
                <a:latin typeface="Verdana"/>
                <a:ea typeface="Microsoft YaHei"/>
              </a:rPr>
              <a:t>Pic-nic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1953-1961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500" spc="-1" strike="noStrike">
                <a:solidFill>
                  <a:srgbClr val="ff0000"/>
                </a:solidFill>
                <a:latin typeface="Verdana"/>
                <a:ea typeface="Microsoft YaHei"/>
              </a:rPr>
              <a:t>El cementerio de automóvi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91240" y="2252520"/>
            <a:ext cx="1221120" cy="192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00960" y="4589640"/>
            <a:ext cx="1370160" cy="183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4880" y="1085760"/>
            <a:ext cx="15354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56600" cy="60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L TEATRO EN EL PERIODO DEMOCRÁTIC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fluyen todas las tendenci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 Teatro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underground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y alternativo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O no se representa o se hace en salas pequeñ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1983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: Se funda la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Compañía de Teatr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poyo institucional: festivales ( Almagro, Mérida, Sitges…) y apertura de tea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e adaptan novelas (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Cinco horas con Mari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urgen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autores-actores: Fernando Fernán Gómez (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Las bicicletas son para el veran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Se recuperan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 los exiliados (Alberti, Arrabal) u olvidados ( Lorca, Va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realistas consagrados siguen con éxito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ín Recue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Sastre ( 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La taberna fantástica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Gala </a:t>
            </a:r>
            <a:r>
              <a:rPr b="1" i="1" lang="es-ES" sz="1200" spc="-1" strike="noStrike">
                <a:solidFill>
                  <a:srgbClr val="c00000"/>
                </a:solidFill>
                <a:latin typeface="Verdana"/>
                <a:ea typeface="Microsoft YaHei"/>
              </a:rPr>
              <a:t>Petra Regal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burgu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lfonso Paso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Enseñar a un sinvergü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dolfo Marsillach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Yo me bajo en la próxima ¿y us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La transi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Ana Diosdado 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Los ochenta son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Juan José Alonso Millán </a:t>
            </a:r>
            <a:r>
              <a:rPr b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C</a:t>
            </a:r>
            <a:r>
              <a:rPr b="1" i="1" lang="es-ES" sz="1200" spc="-1" strike="noStrike">
                <a:solidFill>
                  <a:srgbClr val="ff0000"/>
                </a:solidFill>
                <a:latin typeface="Verdana"/>
                <a:ea typeface="Microsoft YaHei"/>
              </a:rPr>
              <a:t>apullito de alhe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840" y="928800"/>
            <a:ext cx="8643960" cy="5929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Verdana"/>
                <a:ea typeface="Microsoft YaHei"/>
              </a:rPr>
              <a:t>En nuestros d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No hay novedades significativas, sal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xto se revalor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Boom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del musical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l hombre de la Mancha, Mamma mía, Hoy no me puedo levantar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Hay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os líneas diferenciadas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 realista y la vanguard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L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orealist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o “generación del 82”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nte a otras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más comerciale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Luis Alonso de Santos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La estanquera de Vallecas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1980) 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Bajarse al moro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198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Por un lado, obras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 históric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(¡Ay, Carmela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!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Sanchís Sinisterr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) y contenido crít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Las últimas genera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Recrean el pasado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Ernesto Caballer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En la ro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- Guerra de sexos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José Luis Alonso de Santos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Cuadros de amor y de hu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Fracaso y descontento: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Juan Mayorga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La paz perpetu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Paloma Pedrero </a:t>
            </a:r>
            <a:r>
              <a:rPr b="1" i="1" lang="es-ES" sz="1400" spc="-1" strike="noStrike">
                <a:solidFill>
                  <a:srgbClr val="ff0000"/>
                </a:solidFill>
                <a:latin typeface="Verdana"/>
                <a:ea typeface="Microsoft YaHei"/>
              </a:rPr>
              <a:t>Caídos del ci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ovanguardista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: montajes espectác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Fura dels B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uadr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de Salvador Tá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Rodrigo García y Carnicería Teatro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ás allá de la performance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4560" y="1079640"/>
            <a:ext cx="7921800" cy="5398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independi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1"/>
              </a:rPr>
              <a:t>WEB DE  LA CUADRA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2"/>
              </a:rPr>
              <a:t>WEB DE ELS JOG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3"/>
              </a:rPr>
              <a:t>WEB DE LA FURA DELS BAUS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ES" sz="1400" spc="-1" strike="noStrike">
                <a:solidFill>
                  <a:srgbClr val="663399"/>
                </a:solidFill>
                <a:latin typeface="Verdana"/>
                <a:ea typeface="Microsoft YaHe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4"/>
              </a:rPr>
              <a:t>WEB DE LA CU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5"/>
              </a:rPr>
              <a:t>WEB DE ATAL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6"/>
              </a:rPr>
              <a:t>WEB DE TEATRO DE LA ABA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7"/>
              </a:rPr>
              <a:t>WEB DE LA ZA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8"/>
              </a:rPr>
              <a:t>WEB DE LA GOTERA DE LAZOT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7134120" y="1197000"/>
            <a:ext cx="1685880" cy="23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3419640" y="2349360"/>
            <a:ext cx="1347480" cy="196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4218120" y="4653000"/>
            <a:ext cx="258588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643280" y="1197000"/>
            <a:ext cx="2737080" cy="189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799320" y="3068640"/>
            <a:ext cx="1876320" cy="2673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2519280" y="1352520"/>
            <a:ext cx="208620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4400640" y="2924280"/>
            <a:ext cx="261936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utores 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1"/>
              </a:rPr>
              <a:t>Sergi Belb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ccccff"/>
                </a:solidFill>
                <a:latin typeface="Verdana"/>
                <a:ea typeface="Microsoft YaHei"/>
              </a:rPr>
              <a:t>_x0001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2"/>
              </a:rPr>
              <a:t>Juan Mayorga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                                     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3"/>
              </a:rPr>
              <a:t>Eusebio Calonge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       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4"/>
              </a:rPr>
              <a:t>Angélica Liddel 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-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                       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--</a:t>
            </a:r>
            <a:r>
              <a:rPr b="0" lang="es-AR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 </a:t>
            </a:r>
            <a:r>
              <a:rPr b="0" lang="es-AR" sz="1200" spc="-1" strike="noStrike" u="sng">
                <a:solidFill>
                  <a:srgbClr val="ccccff"/>
                </a:solidFill>
                <a:uFillTx/>
                <a:latin typeface="Verdana"/>
                <a:ea typeface="Microsoft YaHei"/>
                <a:hlinkClick r:id="rId5"/>
              </a:rPr>
              <a:t>Ernesto Caballero</a:t>
            </a:r>
            <a:r>
              <a:rPr b="0" lang="es-ES" sz="1200" spc="-1" strike="noStrike">
                <a:solidFill>
                  <a:srgbClr val="663399"/>
                </a:solidFill>
                <a:latin typeface="Verdana"/>
                <a:ea typeface="Microsoft YaHe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0160" y="1844640"/>
            <a:ext cx="180504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43280" y="1844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5719680" y="1749600"/>
            <a:ext cx="2381400" cy="240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722160" y="4643280"/>
            <a:ext cx="2770200" cy="17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580000" y="4527720"/>
            <a:ext cx="252108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énero más afectado negativamente en  la GC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Muertos los renovadores Lorca y Valle-Inclán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Restricción: ser representado en públic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ada"/>
          </a:solidFill>
          <a:ln cap="sq" w="93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Tendencias en la larga posguerra (39-7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Del exi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serv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De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erimental y vanguard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En la democra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eorreali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eovanguard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2600" indent="-282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IDERACIONES GENERAL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urante la Guerra Civil fue el teatro un medio de propaganda política. Tras la Guerra Civil la situación es catastrófica: algunos autores han fallecido (Valle-Inclán, Lorca, Muñoz Seca, Antonio Machado, Unamuno), otros parten al exilio (Alberti, Casona, Max Aub) y los que permanecen en España (J. Álvarez Quintero, Arniches, Benavente, Eduardo Marquina) o bien abandonan el teatro o bien apenas estrenarán obr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autores españoles en exilio seguirán haciendo teatro, quizás lo más interesante sea la obra de Max Aub,  Alejando Casona, Pedro Salinas y Rafael Albert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n la dictadura, sometido como otras artes a la censura, recuperará géneros y temas propios de otra época. Cultivarán un teatro heroico-patriótico Gonzalo Torrente Ballester, Luis Rosales, José María Pemán. Asimismo, se cultiva la alta comedia y el teatro humorístico (y su híbrido, la revista musical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unque cada vez se valora más el teatro humorístico de Jardiel Poncela y de Miguel Mihura, no será hasta finales de los años cuarenta, con la obra inicial de Antonio Buero Vallejo y Alfonso Sastre, cuando el teatro se abra a  nuevos planteamientos con un lenguaje más depur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4040" indent="-282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Distinguiremos 3 perio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40 y 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60 y 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en el period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125360"/>
            <a:ext cx="792144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L TEATRO DE LOS AÑOS 40 y 5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 el panorama teatral de la posguerra se pueden distingu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rvador: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alta comedia y el drama burgués 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Edgard Neville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o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Joaquín Calvo Sotelo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de humor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Enrique Jardiel Poncela o Miguel Mihura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</a:t>
            </a:r>
            <a:r>
              <a:rPr b="1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tos renovadores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de </a:t>
            </a:r>
            <a:r>
              <a:rPr b="1" lang="es-ES" sz="2600" spc="-1" strike="noStrike">
                <a:solidFill>
                  <a:srgbClr val="e46c0a"/>
                </a:solidFill>
                <a:latin typeface="Verdana"/>
                <a:ea typeface="Microsoft YaHei"/>
              </a:rPr>
              <a:t>Antonio Buero Vallejo o Alfonso Sastr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  <a:ea typeface="Microsoft YaHei"/>
              </a:rPr>
              <a:t> entr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25360"/>
            <a:ext cx="831852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conservad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La alta comedia y el drama 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omedias de salón y los dramas de tesis qu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riticaban amablemente las costumbre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 la burguesía a la vez que defendían una espiritualidad tradicional y cat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os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tem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honor, celos, infidelidades, conflictos generacionales, que siempre acaban b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autores más desta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J. I. Luca de Tena </a:t>
            </a: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¿Dónde vas, Alfonso X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- J. Mª. Pemá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: </a:t>
            </a:r>
            <a:r>
              <a:rPr b="1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La ver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Joaquín Calvo Sotelo : </a:t>
            </a:r>
            <a:r>
              <a:rPr b="0" i="1" lang="es-ES" sz="2000" spc="-1" strike="noStrike">
                <a:solidFill>
                  <a:srgbClr val="ff0000"/>
                </a:solidFill>
                <a:latin typeface="Verdana"/>
                <a:ea typeface="Microsoft YaHei"/>
              </a:rPr>
              <a:t>La mur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y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dgar Nevill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 los años sesent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tros autores como Alfonso Paso, Jaime Salom, Ana Diosdado y Jaime de Armiñán continuarán este tipo de drama 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928800"/>
            <a:ext cx="8929800" cy="559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</a:t>
            </a:r>
            <a:r>
              <a:rPr b="1" lang="es-ES" sz="700" spc="-1" strike="noStrike">
                <a:solidFill>
                  <a:srgbClr val="000000"/>
                </a:solidFill>
                <a:latin typeface="Verdana"/>
                <a:ea typeface="Microsoft YaHei"/>
              </a:rPr>
              <a:t>)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media de hu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 dos autor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: Son renovadores del humor, anticipadores del "teatro del absur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rique Jardiel Poncela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1-1952) Público fiel. Entre 1939 y 1952 llegó a escribir veinte piezas de humor.  Humor neg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Originalidad, insólitas situaciones y personajes, el absurdo por el absur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Eloísa está debajo de un almendr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 su mejor obra, o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os ladrones somos gente hon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iguel Mihura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3-1977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or y escritor de revistas de humor, la más popular,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La codorniz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Con  humor absurdo presenta el conflicto entre el individuo y las convenciones soci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Supo humanizar a sus personajes, enfrentados a un mundo raquítico, asfixiado por prejuicios inút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 1932, su mejor obra </a:t>
            </a:r>
            <a:r>
              <a:rPr b="1" i="1" lang="es-ES" sz="1600" spc="-1" strike="noStrike">
                <a:solidFill>
                  <a:srgbClr val="ff0000"/>
                </a:solidFill>
                <a:latin typeface="Verdana"/>
                <a:ea typeface="Microsoft YaHei"/>
              </a:rPr>
              <a:t>Tres sombreros de cop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no representada hasta 195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Satiriza la rutina y mediocridad de la burguesía de provincias y la no menos miserable vida del teatro de variedades. Enfrentan dos mundos y dos concepciones de l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- la vida burguesa y prosaica de DIONISI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- la vida poética y de libertad de PA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Otras: Ni pobre ni rico sino todo lo contrario, El caso de la mujer asesinadita, Maribel y la extraña familia, Ninette y un señor de Mur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052640"/>
            <a:ext cx="7921440" cy="540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Enrique Jardiel Ponc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1901-19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Miguel Mihura (1903-197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1212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960120"/>
                <a:tab algn="l" pos="10409400"/>
                <a:tab algn="l" pos="10858680"/>
                <a:tab algn="l" pos="11307600"/>
                <a:tab algn="l" pos="11756880"/>
                <a:tab algn="l" pos="12206160"/>
                <a:tab algn="l" pos="12655440"/>
                <a:tab algn="l" pos="1310472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473120" cy="2325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172224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1473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89000"/>
            <a:ext cx="7772400" cy="647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EL TEATRO ESPAÑOL DESDE 1940 A NUESTROS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4200" y="1125360"/>
            <a:ext cx="8643960" cy="539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) Los intentos renovadores: teatro del 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 lo largo de los años 40 distintos autores y grupos tea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tan renovar el teatro españ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rte Nuevo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Teatro Español Universitario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GT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Grupo de teatro realist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equeño Teatro Di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atro realista y de denunci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que, al mismo tiempo que renueva la escena y manifiesta su oposición a la dictad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em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la injusticia social, la explotación, la vida de la clase media y baja, la condición humana de los humillados, los marg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stacan: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ntonio Buero Vallejo y  Alfonso Sastr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1:58:37Z</dcterms:created>
  <dc:creator>usuario</dc:creator>
  <dc:description/>
  <dc:language>en-US</dc:language>
  <cp:lastModifiedBy>Lola</cp:lastModifiedBy>
  <dcterms:modified xsi:type="dcterms:W3CDTF">2017-02-08T08:25:32Z</dcterms:modified>
  <cp:revision>3</cp:revision>
  <dc:subject/>
  <dc:title>CURSO 2º DE BACHILLERATO LENGUA CASTELLANA Y LITERATURA</dc:title>
</cp:coreProperties>
</file>